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753A-3701-4D7F-8F7C-CC3E1362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040A-F879-4834-B2CE-F7D1D1B4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AB9-7877-4931-8BD8-861FFD49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7765-9766-4B44-8531-3004826D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0AD-89C9-4276-8031-3C61557D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8D3-4BFA-4D11-8EA0-F85ACFB0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3C7-298A-433B-AE88-21823BBF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FF4-F570-40D8-8C66-D1144E7E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638A-7EA7-4BA8-8977-2D9D51A6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BC4-1B35-4404-919D-B07C5DEF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1808-6186-437B-884B-EF006AE3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FA5-94E0-4479-B048-9B1EB92B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35AD-6EEC-402A-945B-881AA631D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808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jugate “to be”:  I am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:                 he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2193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say:  What’s your name?  Who are you?  Who is t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096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say:  How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say:  What do you like to do?  What does he like to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1911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say:  Is he your brother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she your sis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hat he is your brother, but that she is your cous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181480"/>
            <a:ext cx="914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rite this telling me about 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h heisse Anneliese.  Ich bin 13.  Ich spiele Fussball gern.  Ich höre Musik auc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8:29:47Z</dcterms:created>
  <dc:creator>udsd</dc:creator>
  <dc:description/>
  <dc:language>en-US</dc:language>
  <cp:lastModifiedBy>udsd</cp:lastModifiedBy>
  <dcterms:modified xsi:type="dcterms:W3CDTF">2009-05-11T18:59:54Z</dcterms:modified>
  <cp:revision>3</cp:revision>
  <dc:subject/>
  <dc:title>Slide 1</dc:title>
</cp:coreProperties>
</file>